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A32-15D0-46C8-8212-7A8AF00D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C62-D8AA-4688-A26E-A573B34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722-4BAF-4A2E-8911-0428651B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69E-7201-48AA-9416-F2A4D3C4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563-B57B-4CFA-B5B9-20D7EB3B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9B9-48D3-4E8C-A287-7A3E9ED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4A4-8491-42C7-AD11-55F6079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66E-BAAC-4A9D-B2CF-A5D73F6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867-B882-4009-932F-D2C3B009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1BD-FDEF-4125-BB6B-F280430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0B6-010B-4356-B4D8-0B28E41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403-D80A-4D0C-9CCD-6F564A1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7A59-75D9-436B-B37E-7E66D318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bust" TargetMode="External"/><Relationship Id="rId2" Type="http://schemas.openxmlformats.org/officeDocument/2006/relationships/hyperlink" Target="http://ro.wikipedia.org/wiki/Rosacea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meur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bu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tufos, peren, cu lăstari târâtori, cu tulpini drepte, arcuite spre vârf, cu ghimpi drepți, de forma unor ace, adeseori plasați numai pe partea inferioară. Zmeurul aparține familiei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acea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70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15:59Z</dcterms:created>
  <dc:creator>Elev</dc:creator>
  <dc:description/>
  <dc:language>en-US</dc:language>
  <cp:lastModifiedBy>Elev</cp:lastModifiedBy>
  <dcterms:modified xsi:type="dcterms:W3CDTF">2012-06-18T10:1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